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5A47-1C18-43E4-A12E-4BDC305AC7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81C9-DDF6-457F-97C4-3C0E8A393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F17F-71D2-4067-B796-77A6649653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D126-21FA-4714-A98E-0134AF0A6B3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6CE0-ADD3-4ABA-B4F2-E807187023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4E26-E00D-48DC-A000-670B5EDF416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811F-83F8-4583-9441-4A5A9AE8B20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035-4FE3-44B8-8FB4-D0DA857CFC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E012-FB67-49EF-A816-F19BE15208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7708-0FAB-4FF3-9502-E59B37CCEB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9893-1B09-4604-8C95-49B1C162B7D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9762-D938-409A-A3CD-F3F42C6E58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F915-C445-4F98-9469-BB7263B5BF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0444-5768-4C38-8DB0-A22A005DD6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FCA-37FD-4CCE-91DA-1C94C00C4F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C742-2B95-46D4-8B8C-866913A7266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8F2-E825-494A-A49F-C6559218F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1EB-AF71-43F2-B029-D8E7DDD581A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A25-4CF0-43B9-B987-7ED7394653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30B-74CC-48CF-8068-D1B0E38F7D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C397-B7BC-4799-99D7-823842D7AD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B2BA-673D-45D6-A588-C4F3CCB69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FA1B-6567-4972-9DA3-C7834F82DB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AA7-5A18-4D4B-AA2A-421E962E3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EB36-FA3D-4796-AC58-94407CECC1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C58-114C-48A8-9D65-A597E982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59F-9172-427F-824D-A35393B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282-4C60-4017-93D7-C8C53C2C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D74-38D1-45F5-A29C-2CC81BD1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FA1-9BE4-49C2-9CD2-055F94B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98B-31D0-46B5-8B26-BD5CCB61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79C-6DEB-42E4-900D-C49333C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4EA-8C4E-4F82-9CC1-7E1A161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5FD-FF0B-4A2E-ADDE-180961D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D98-7040-4B7B-BFEA-34FFABF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6D6-37FC-48AC-BC23-20688637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DAA-9C65-49E7-8D00-11C1828F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995B-050D-4A1A-9DAC-C06C4971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FFF4-0AEB-45E1-B652-557828F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257-80F0-4A88-8D3F-471D4CCF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54E-C5C2-40DA-97BD-8695F7E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7B8-B8DB-4F7D-8DD2-970ECD2D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BE01-985F-4470-ABF1-874E302D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1FEC-FCF9-468B-9421-5AEA94F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DEEC-3626-49AC-93B9-505B5B1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F601-2D20-4B52-850E-E9D8C74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EF5A-DA25-4F5A-8B48-386E19AB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7799-7827-42C2-8375-CE3FE29F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50E-57D7-4831-800F-B166710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6A97-5159-4CAF-9CC3-131CF162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873A-6646-4753-B703-79276158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6FB7-81EE-43AA-8645-42F5A224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BB36-15E8-489A-8BFB-3E20CFBE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03CE-D703-4057-BD4B-BD1F7349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7514-699A-494C-9EEE-75E7BF1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0240-C594-4108-ABCE-F7022DF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8175-C9F2-490E-9B15-B3201DB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CA20-DC20-4D44-9713-78D46591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5EE7-EDC9-4BD0-92FD-A1273FB7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D770-A5BF-4CFD-BED2-C7F211F2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FE4A-6CDF-4FD3-9257-DAD2375B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4EA-C47A-4A4F-951A-06B72BAB1ACE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45A-CA9D-4057-AE53-798775EF3C6F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4F1-7562-47CC-B9DE-475B3A9B5C80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s this thing o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343080"/>
            <a:ext cx="61722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il Fa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21be6c83-2cfe-4ab0-8538-da1c95c4b03f.jpg"/>
          <p:cNvPicPr/>
          <p:nvPr/>
        </p:nvPicPr>
        <p:blipFill>
          <a:blip r:embed="rId1"/>
          <a:srcRect l="0" t="23915" r="709" b="16305"/>
          <a:stretch/>
        </p:blipFill>
        <p:spPr>
          <a:xfrm>
            <a:off x="1981080" y="1246320"/>
            <a:ext cx="50292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3"/>
          <p:cNvSpPr/>
          <p:nvPr/>
        </p:nvSpPr>
        <p:spPr>
          <a:xfrm>
            <a:off x="3695760" y="1657440"/>
            <a:ext cx="1752480" cy="342720"/>
          </a:xfrm>
          <a:prstGeom prst="rightArrow">
            <a:avLst>
              <a:gd name="adj1" fmla="val 50000"/>
              <a:gd name="adj2" fmla="val 9587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7"/>
          <p:cNvSpPr/>
          <p:nvPr/>
        </p:nvSpPr>
        <p:spPr>
          <a:xfrm rot="7615200">
            <a:off x="5200560" y="249552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8"/>
          <p:cNvSpPr/>
          <p:nvPr/>
        </p:nvSpPr>
        <p:spPr>
          <a:xfrm flipV="1" rot="13984800">
            <a:off x="3143160" y="255240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8640" y="438120"/>
            <a:ext cx="28954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il Fa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3902040" y="1919160"/>
            <a:ext cx="1479600" cy="385920"/>
          </a:xfrm>
          <a:prstGeom prst="rightArrow">
            <a:avLst>
              <a:gd name="adj1" fmla="val 50000"/>
              <a:gd name="adj2" fmla="val 9579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0" name="Oval 4"/>
          <p:cNvGrpSpPr/>
          <p:nvPr/>
        </p:nvGrpSpPr>
        <p:grpSpPr>
          <a:xfrm>
            <a:off x="2114640" y="1322280"/>
            <a:ext cx="1652400" cy="1652760"/>
            <a:chOff x="2114640" y="1322280"/>
            <a:chExt cx="1652400" cy="1652760"/>
          </a:xfrm>
        </p:grpSpPr>
        <p:pic>
          <p:nvPicPr>
            <p:cNvPr id="241" name="Oval 4" descr=""/>
            <p:cNvPicPr/>
            <p:nvPr/>
          </p:nvPicPr>
          <p:blipFill>
            <a:blip r:embed="rId1"/>
            <a:stretch/>
          </p:blipFill>
          <p:spPr>
            <a:xfrm>
              <a:off x="2114640" y="1322280"/>
              <a:ext cx="16524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368440" y="1576440"/>
              <a:ext cx="11383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est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3" name="Oval 6"/>
          <p:cNvSpPr/>
          <p:nvPr/>
        </p:nvSpPr>
        <p:spPr>
          <a:xfrm>
            <a:off x="3807000" y="3335400"/>
            <a:ext cx="160632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7"/>
          <p:cNvSpPr/>
          <p:nvPr/>
        </p:nvSpPr>
        <p:spPr>
          <a:xfrm rot="7615200">
            <a:off x="5076720" y="2931840"/>
            <a:ext cx="771480" cy="419040"/>
          </a:xfrm>
          <a:prstGeom prst="rightArrow">
            <a:avLst>
              <a:gd name="adj1" fmla="val 50000"/>
              <a:gd name="adj2" fmla="val 46154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8"/>
          <p:cNvSpPr/>
          <p:nvPr/>
        </p:nvSpPr>
        <p:spPr>
          <a:xfrm flipV="1" rot="13984800">
            <a:off x="3339360" y="2995920"/>
            <a:ext cx="772920" cy="418680"/>
          </a:xfrm>
          <a:prstGeom prst="rightArrow">
            <a:avLst>
              <a:gd name="adj1" fmla="val 50000"/>
              <a:gd name="adj2" fmla="val 4618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Oval 5"/>
          <p:cNvGrpSpPr/>
          <p:nvPr/>
        </p:nvGrpSpPr>
        <p:grpSpPr>
          <a:xfrm>
            <a:off x="5614920" y="1407960"/>
            <a:ext cx="1650960" cy="1652760"/>
            <a:chOff x="5614920" y="1407960"/>
            <a:chExt cx="1650960" cy="1652760"/>
          </a:xfrm>
        </p:grpSpPr>
        <p:pic>
          <p:nvPicPr>
            <p:cNvPr id="247" name="Oval 5" descr=""/>
            <p:cNvPicPr/>
            <p:nvPr/>
          </p:nvPicPr>
          <p:blipFill>
            <a:blip r:embed="rId2"/>
            <a:stretch/>
          </p:blipFill>
          <p:spPr>
            <a:xfrm>
              <a:off x="5614920" y="1407960"/>
              <a:ext cx="16509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65840" y="1663560"/>
              <a:ext cx="11383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9" name="Oval 5"/>
          <p:cNvSpPr/>
          <p:nvPr/>
        </p:nvSpPr>
        <p:spPr>
          <a:xfrm>
            <a:off x="5486400" y="1420920"/>
            <a:ext cx="167652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nalyz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3733920" y="3714840"/>
            <a:ext cx="1676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3"/>
          <p:cNvSpPr/>
          <p:nvPr/>
        </p:nvSpPr>
        <p:spPr>
          <a:xfrm>
            <a:off x="3695760" y="1657440"/>
            <a:ext cx="1752480" cy="342720"/>
          </a:xfrm>
          <a:prstGeom prst="rightArrow">
            <a:avLst>
              <a:gd name="adj1" fmla="val 50000"/>
              <a:gd name="adj2" fmla="val 9587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7"/>
          <p:cNvSpPr/>
          <p:nvPr/>
        </p:nvSpPr>
        <p:spPr>
          <a:xfrm rot="7615200">
            <a:off x="5200560" y="249552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8"/>
          <p:cNvSpPr/>
          <p:nvPr/>
        </p:nvSpPr>
        <p:spPr>
          <a:xfrm flipV="1" rot="13984800">
            <a:off x="3143160" y="2552400"/>
            <a:ext cx="685800" cy="49536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409720" y="3619440"/>
            <a:ext cx="35816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llow the Fu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902040" y="1919160"/>
            <a:ext cx="1479600" cy="385920"/>
          </a:xfrm>
          <a:prstGeom prst="rightArrow">
            <a:avLst>
              <a:gd name="adj1" fmla="val 50000"/>
              <a:gd name="adj2" fmla="val 9579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6" name="Oval 4"/>
          <p:cNvGrpSpPr/>
          <p:nvPr/>
        </p:nvGrpSpPr>
        <p:grpSpPr>
          <a:xfrm>
            <a:off x="2114640" y="1322280"/>
            <a:ext cx="1652400" cy="1652760"/>
            <a:chOff x="2114640" y="1322280"/>
            <a:chExt cx="1652400" cy="1652760"/>
          </a:xfrm>
        </p:grpSpPr>
        <p:pic>
          <p:nvPicPr>
            <p:cNvPr id="257" name="Oval 4" descr=""/>
            <p:cNvPicPr/>
            <p:nvPr/>
          </p:nvPicPr>
          <p:blipFill>
            <a:blip r:embed="rId1"/>
            <a:stretch/>
          </p:blipFill>
          <p:spPr>
            <a:xfrm>
              <a:off x="2114640" y="1322280"/>
              <a:ext cx="16524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368440" y="1576440"/>
              <a:ext cx="11383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Test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9" name="Oval 6"/>
          <p:cNvSpPr/>
          <p:nvPr/>
        </p:nvSpPr>
        <p:spPr>
          <a:xfrm>
            <a:off x="3807000" y="3335400"/>
            <a:ext cx="160632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7"/>
          <p:cNvSpPr/>
          <p:nvPr/>
        </p:nvSpPr>
        <p:spPr>
          <a:xfrm rot="7615200">
            <a:off x="5076720" y="2931840"/>
            <a:ext cx="771480" cy="419040"/>
          </a:xfrm>
          <a:prstGeom prst="rightArrow">
            <a:avLst>
              <a:gd name="adj1" fmla="val 50000"/>
              <a:gd name="adj2" fmla="val 46154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8"/>
          <p:cNvSpPr/>
          <p:nvPr/>
        </p:nvSpPr>
        <p:spPr>
          <a:xfrm flipV="1" rot="13984800">
            <a:off x="3339360" y="2995920"/>
            <a:ext cx="772920" cy="418680"/>
          </a:xfrm>
          <a:prstGeom prst="rightArrow">
            <a:avLst>
              <a:gd name="adj1" fmla="val 50000"/>
              <a:gd name="adj2" fmla="val 4618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2" name="Oval 5"/>
          <p:cNvGrpSpPr/>
          <p:nvPr/>
        </p:nvGrpSpPr>
        <p:grpSpPr>
          <a:xfrm>
            <a:off x="5614920" y="1407960"/>
            <a:ext cx="1650960" cy="1652760"/>
            <a:chOff x="5614920" y="1407960"/>
            <a:chExt cx="1650960" cy="1652760"/>
          </a:xfrm>
        </p:grpSpPr>
        <p:pic>
          <p:nvPicPr>
            <p:cNvPr id="263" name="Oval 5" descr=""/>
            <p:cNvPicPr/>
            <p:nvPr/>
          </p:nvPicPr>
          <p:blipFill>
            <a:blip r:embed="rId2"/>
            <a:stretch/>
          </p:blipFill>
          <p:spPr>
            <a:xfrm>
              <a:off x="5614920" y="1407960"/>
              <a:ext cx="16509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65840" y="1663560"/>
              <a:ext cx="11383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5" name="Oval 5"/>
          <p:cNvSpPr/>
          <p:nvPr/>
        </p:nvSpPr>
        <p:spPr>
          <a:xfrm>
            <a:off x="5486400" y="1420920"/>
            <a:ext cx="167652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nalyz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3733920" y="3714840"/>
            <a:ext cx="16761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429000" y="438120"/>
            <a:ext cx="28954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Fail Fast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D Talk: Marshmallow Challen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TomWujec_2010U.mp4" descr=""/>
          <p:cNvPicPr/>
          <p:nvPr/>
        </p:nvPicPr>
        <p:blipFill>
          <a:blip r:embed="rId1"/>
          <a:stretch/>
        </p:blipFill>
        <p:spPr>
          <a:xfrm>
            <a:off x="3048120" y="22669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Channel your inner kindergartener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eak Into Roo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poker chip col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me/Software Paralle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:\Documents and Settings\mahk\My Documents\My Pictures\abacus.jpg"/>
          <p:cNvPicPr/>
          <p:nvPr/>
        </p:nvPicPr>
        <p:blipFill>
          <a:blip r:embed="rId2"/>
          <a:stretch/>
        </p:blipFill>
        <p:spPr>
          <a:xfrm>
            <a:off x="4648320" y="2114640"/>
            <a:ext cx="3504960" cy="1571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C:\Documents and Settings\mahk\My Documents\My Pictures\chess-(b).jpg"/>
          <p:cNvPicPr/>
          <p:nvPr/>
        </p:nvPicPr>
        <p:blipFill>
          <a:blip r:embed="rId3"/>
          <a:stretch/>
        </p:blipFill>
        <p:spPr>
          <a:xfrm>
            <a:off x="380880" y="2090880"/>
            <a:ext cx="3429000" cy="1681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9"/>
          <p:cNvSpPr/>
          <p:nvPr/>
        </p:nvSpPr>
        <p:spPr>
          <a:xfrm>
            <a:off x="4004280" y="24004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DA Framewor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3"/>
          <p:cNvGrpSpPr/>
          <p:nvPr/>
        </p:nvGrpSpPr>
        <p:grpSpPr>
          <a:xfrm>
            <a:off x="1143000" y="2000160"/>
            <a:ext cx="6933960" cy="1543320"/>
            <a:chOff x="1143000" y="2000160"/>
            <a:chExt cx="6933960" cy="1543320"/>
          </a:xfrm>
        </p:grpSpPr>
        <p:cxnSp>
          <p:nvCxnSpPr>
            <p:cNvPr id="282" name="AutoShape 4"/>
            <p:cNvCxnSpPr>
              <a:stCxn id="283" idx="3"/>
              <a:endCxn id="284" idx="1"/>
            </p:cNvCxnSpPr>
            <p:nvPr/>
          </p:nvCxnSpPr>
          <p:spPr>
            <a:xfrm>
              <a:off x="3327480" y="2771640"/>
              <a:ext cx="18432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</p:cxnSp>
        <p:cxnSp>
          <p:nvCxnSpPr>
            <p:cNvPr id="285" name="AutoShape 5"/>
            <p:cNvCxnSpPr>
              <a:stCxn id="284" idx="3"/>
              <a:endCxn id="286" idx="1"/>
            </p:cNvCxnSpPr>
            <p:nvPr/>
          </p:nvCxnSpPr>
          <p:spPr>
            <a:xfrm>
              <a:off x="5708520" y="2771640"/>
              <a:ext cx="18468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</p:cxnSp>
        <p:sp>
          <p:nvSpPr>
            <p:cNvPr id="283" name="Rectangle 6"/>
            <p:cNvSpPr/>
            <p:nvPr/>
          </p:nvSpPr>
          <p:spPr>
            <a:xfrm>
              <a:off x="1143000" y="2000160"/>
              <a:ext cx="2171160" cy="154332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Mechan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3524400" y="2000160"/>
              <a:ext cx="2171160" cy="15433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Dynam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5906160" y="2000160"/>
              <a:ext cx="2170800" cy="15433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 Narrow"/>
                </a:rPr>
                <a:t>Aesthetics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bomb"/>
          <p:cNvPicPr/>
          <p:nvPr/>
        </p:nvPicPr>
        <p:blipFill>
          <a:blip r:embed="rId1"/>
          <a:stretch/>
        </p:blipFill>
        <p:spPr>
          <a:xfrm rot="20856600">
            <a:off x="6095880" y="2514240"/>
            <a:ext cx="914400" cy="700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golf"/>
          <p:cNvPicPr/>
          <p:nvPr/>
        </p:nvPicPr>
        <p:blipFill>
          <a:blip r:embed="rId2"/>
          <a:stretch/>
        </p:blipFill>
        <p:spPr>
          <a:xfrm>
            <a:off x="5638680" y="3600360"/>
            <a:ext cx="1000080" cy="836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uffling, Trick-Taking, Bid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o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munition, Spaw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d Traps, Water Haz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2" descr="C:\Users\MAHK\AppData\Local\Microsoft\Windows\Temporary Internet Files\Content.IE5\0DELC13B\MC900431537[1].png"/>
          <p:cNvPicPr/>
          <p:nvPr/>
        </p:nvPicPr>
        <p:blipFill>
          <a:blip r:embed="rId3"/>
          <a:stretch/>
        </p:blipFill>
        <p:spPr>
          <a:xfrm>
            <a:off x="6172200" y="1200240"/>
            <a:ext cx="1838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1001880" y="1257480"/>
            <a:ext cx="1925640" cy="11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3000240" y="2089080"/>
            <a:ext cx="2443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5"/>
          <p:cNvSpPr/>
          <p:nvPr/>
        </p:nvSpPr>
        <p:spPr>
          <a:xfrm flipH="1" flipV="1">
            <a:off x="2778120" y="3588840"/>
            <a:ext cx="2665440" cy="1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6"/>
          <p:cNvSpPr/>
          <p:nvPr/>
        </p:nvSpPr>
        <p:spPr>
          <a:xfrm flipH="1">
            <a:off x="2778120" y="3922560"/>
            <a:ext cx="2665440" cy="1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5943600" y="268596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10" descr="therm"/>
          <p:cNvPicPr/>
          <p:nvPr/>
        </p:nvPicPr>
        <p:blipFill>
          <a:blip r:embed="rId1"/>
          <a:stretch/>
        </p:blipFill>
        <p:spPr>
          <a:xfrm>
            <a:off x="5518080" y="1368360"/>
            <a:ext cx="831960" cy="1332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ontrol"/>
          <p:cNvPicPr/>
          <p:nvPr/>
        </p:nvPicPr>
        <p:blipFill>
          <a:blip r:embed="rId2"/>
          <a:stretch/>
        </p:blipFill>
        <p:spPr>
          <a:xfrm>
            <a:off x="5518080" y="3645000"/>
            <a:ext cx="154152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ooler"/>
          <p:cNvPicPr/>
          <p:nvPr/>
        </p:nvPicPr>
        <p:blipFill>
          <a:blip r:embed="rId3"/>
          <a:stretch/>
        </p:blipFill>
        <p:spPr>
          <a:xfrm>
            <a:off x="1001880" y="3754440"/>
            <a:ext cx="1677960" cy="787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heater"/>
          <p:cNvPicPr/>
          <p:nvPr/>
        </p:nvPicPr>
        <p:blipFill>
          <a:blip r:embed="rId4"/>
          <a:stretch/>
        </p:blipFill>
        <p:spPr>
          <a:xfrm>
            <a:off x="1001880" y="2979720"/>
            <a:ext cx="1703160" cy="795240"/>
          </a:xfrm>
          <a:prstGeom prst="rect">
            <a:avLst/>
          </a:prstGeom>
          <a:ln w="0">
            <a:noFill/>
          </a:ln>
        </p:spPr>
      </p:pic>
      <p:sp>
        <p:nvSpPr>
          <p:cNvPr id="301" name="Freeform 14"/>
          <p:cNvSpPr/>
          <p:nvPr/>
        </p:nvSpPr>
        <p:spPr>
          <a:xfrm>
            <a:off x="743040" y="2422440"/>
            <a:ext cx="258840" cy="94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434880" y="2144880"/>
            <a:ext cx="567000" cy="17776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me Design Worksho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3520" y="302904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DC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209680" y="1922400"/>
            <a:ext cx="5943600" cy="3075480"/>
            <a:chOff x="2209680" y="1922400"/>
            <a:chExt cx="5943600" cy="3075480"/>
          </a:xfrm>
        </p:grpSpPr>
        <p:graphicFrame>
          <p:nvGraphicFramePr>
            <p:cNvPr id="306" name="Object 3"/>
            <p:cNvGraphicFramePr/>
            <p:nvPr/>
          </p:nvGraphicFramePr>
          <p:xfrm>
            <a:off x="2209680" y="1922400"/>
            <a:ext cx="5943600" cy="300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1922400"/>
                      <a:ext cx="5943600" cy="30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Text Box 4"/>
            <p:cNvSpPr/>
            <p:nvPr/>
          </p:nvSpPr>
          <p:spPr>
            <a:xfrm rot="16200000">
              <a:off x="1919520" y="3074760"/>
              <a:ext cx="15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</a:rPr>
                <a:t>Chance in 3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4701600" y="462960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</a:rPr>
                <a:t>Die roll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10" name="Picture 6" descr="dice"/>
          <p:cNvPicPr/>
          <p:nvPr/>
        </p:nvPicPr>
        <p:blipFill>
          <a:blip r:embed="rId3"/>
          <a:stretch/>
        </p:blipFill>
        <p:spPr>
          <a:xfrm>
            <a:off x="457200" y="3143160"/>
            <a:ext cx="1752480" cy="1170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sychology = Human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ion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 Disso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3"/>
          <p:cNvGraphicFramePr/>
          <p:nvPr/>
        </p:nvGraphicFramePr>
        <p:xfrm>
          <a:off x="2209680" y="1922400"/>
          <a:ext cx="594360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22400"/>
                    <a:ext cx="59436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Picture 6" descr="dice"/>
          <p:cNvPicPr/>
          <p:nvPr/>
        </p:nvPicPr>
        <p:blipFill>
          <a:blip r:embed="rId3"/>
          <a:stretch/>
        </p:blipFill>
        <p:spPr>
          <a:xfrm>
            <a:off x="457200" y="3143160"/>
            <a:ext cx="1752480" cy="1170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metime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33520" y="2038320"/>
            <a:ext cx="8076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Idea of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is separate from ru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behavior can emerge from many different rul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ght Kinds of “Fun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nta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6680" indent="-3466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895480" y="4229280"/>
            <a:ext cx="510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exampl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mulating an “Aesthetic Model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aesthetic go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formal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criteria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modes of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s as an “aesthetic compas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often reus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Competi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game is competitive if players are emotionally invested in defeating each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are adversa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s want to w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yer feels that he can’t w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yer can’t measure his progr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swords"/>
          <p:cNvPicPr/>
          <p:nvPr/>
        </p:nvPicPr>
        <p:blipFill>
          <a:blip r:embed="rId1"/>
          <a:stretch/>
        </p:blipFill>
        <p:spPr>
          <a:xfrm>
            <a:off x="6019920" y="2629080"/>
            <a:ext cx="173664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al: Pirate Fantas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pirate fantasy conforms to the genre conventions of pirate movies, and permits the player to engage in certain kinds of anti-social pirate behavi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572000" y="25146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391520" y="171360"/>
            <a:ext cx="9903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10" descr="jollyroger"/>
          <p:cNvPicPr/>
          <p:nvPr/>
        </p:nvPicPr>
        <p:blipFill>
          <a:blip r:embed="rId1"/>
          <a:stretch/>
        </p:blipFill>
        <p:spPr>
          <a:xfrm>
            <a:off x="6699240" y="-6480"/>
            <a:ext cx="2298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7391520" y="171360"/>
            <a:ext cx="9903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al: Pirate Fantas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: A pirate fantasy conforms to the genre conventions of pirate movies, and permits the player to engage in certain kinds of anti-social pirate behavi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ch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y upon W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572000" y="25146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0" descr="jollyroger"/>
          <p:cNvPicPr/>
          <p:nvPr/>
        </p:nvPicPr>
        <p:blipFill>
          <a:blip r:embed="rId1"/>
          <a:stretch/>
        </p:blipFill>
        <p:spPr>
          <a:xfrm>
            <a:off x="6699240" y="-6480"/>
            <a:ext cx="2298600" cy="1249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4724280" y="2914560"/>
            <a:ext cx="4191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ailu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Vulner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Compa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one Sans ITC TT"/>
                <a:ea typeface="ヒラギノ角ゴ Pro W3"/>
              </a:rPr>
              <a:t>Genero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219320" y="2629080"/>
          <a:ext cx="6400800" cy="21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29080"/>
                    <a:ext cx="6400800" cy="21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Dr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tion: A game is dramatic i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central conflict creates dramatic 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ramatic tension builds towards a clima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5" descr="masks"/>
          <p:cNvPicPr/>
          <p:nvPr/>
        </p:nvPicPr>
        <p:blipFill>
          <a:blip r:embed="rId3"/>
          <a:stretch/>
        </p:blipFill>
        <p:spPr>
          <a:xfrm>
            <a:off x="6781680" y="343080"/>
            <a:ext cx="14479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out The Worksho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ed in 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d on it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ed in a formal approa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ded to be open-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al: Dr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nse of uncertain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nse of inev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on increases towards a clim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flict’s outcome is obvious (no uncertain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ense of forward progress (no inevitabili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160" indent="-208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yer doesn’t care how the conflict resolv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masks"/>
          <p:cNvPicPr/>
          <p:nvPr/>
        </p:nvPicPr>
        <p:blipFill>
          <a:blip r:embed="rId1"/>
          <a:stretch/>
        </p:blipFill>
        <p:spPr>
          <a:xfrm>
            <a:off x="6781680" y="343080"/>
            <a:ext cx="14479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esthetic Models are an Important T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hard to solve problems we can’t descri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ecially in a large group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sense, it isn’t about th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Mechan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Dynam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Aesthe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about th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8" name="AutoShape 5"/>
          <p:cNvCxnSpPr/>
          <p:nvPr/>
        </p:nvCxnSpPr>
        <p:spPr>
          <a:xfrm>
            <a:off x="3098520" y="2771280"/>
            <a:ext cx="1846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359" name="AutoShape 6"/>
          <p:cNvCxnSpPr/>
          <p:nvPr/>
        </p:nvCxnSpPr>
        <p:spPr>
          <a:xfrm>
            <a:off x="5479920" y="2771280"/>
            <a:ext cx="185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360" name="Rectangle 10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Poin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where game design happe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5" name="AutoShape 4"/>
          <p:cNvCxnSpPr/>
          <p:nvPr/>
        </p:nvCxnSpPr>
        <p:spPr>
          <a:xfrm>
            <a:off x="3098520" y="2771280"/>
            <a:ext cx="1846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366" name="AutoShape 5"/>
          <p:cNvCxnSpPr/>
          <p:nvPr/>
        </p:nvCxnSpPr>
        <p:spPr>
          <a:xfrm>
            <a:off x="5479920" y="2771280"/>
            <a:ext cx="185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367" name="Rectangle 6"/>
          <p:cNvSpPr/>
          <p:nvPr/>
        </p:nvSpPr>
        <p:spPr>
          <a:xfrm>
            <a:off x="914400" y="2000160"/>
            <a:ext cx="2171880" cy="1543320"/>
          </a:xfrm>
          <a:prstGeom prst="rect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295800" y="2000160"/>
            <a:ext cx="2171520" cy="15433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676840" y="2000160"/>
            <a:ext cx="2171880" cy="1543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t’s NOT about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t a job as a game desig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write a design doc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game ideas “come from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get your game fu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use a level 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 Other Words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not about the Busines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Getting a job, pitching a game, getting fund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not about the Profess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Writing documents, tracking bugs, using too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about the Craf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king games that are f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pirates"/>
          <p:cNvPicPr/>
          <p:nvPr/>
        </p:nvPicPr>
        <p:blipFill>
          <a:blip r:embed="rId1"/>
          <a:stretch/>
        </p:blipFill>
        <p:spPr>
          <a:xfrm rot="565800">
            <a:off x="6008760" y="2869920"/>
            <a:ext cx="2133360" cy="72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dice"/>
          <p:cNvPicPr/>
          <p:nvPr/>
        </p:nvPicPr>
        <p:blipFill>
          <a:blip r:embed="rId2"/>
          <a:stretch/>
        </p:blipFill>
        <p:spPr>
          <a:xfrm>
            <a:off x="4800600" y="2343240"/>
            <a:ext cx="1143000" cy="763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knight"/>
          <p:cNvPicPr/>
          <p:nvPr/>
        </p:nvPicPr>
        <p:blipFill>
          <a:blip r:embed="rId3"/>
          <a:stretch/>
        </p:blipFill>
        <p:spPr>
          <a:xfrm rot="20999400">
            <a:off x="6400800" y="137160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You’ll be Do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z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qu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y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in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hedule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am-6pm both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unch from 12:15-1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ffee breaks at 11am &amp; 4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-3 hour design exerc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381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Facul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65708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rew Fi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e Pokémon Company Internation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nathan Ham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rystal Dynamics/Eid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b Hav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t H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LucasAr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in Hunic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atgamecompan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Content Placeholder 14"/>
          <p:cNvSpPr/>
          <p:nvPr/>
        </p:nvSpPr>
        <p:spPr>
          <a:xfrm>
            <a:off x="4800600" y="1200240"/>
            <a:ext cx="403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Frank Lant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rea/Code / Zyng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Marc LeBlan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lectrified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ndrew Le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lectrified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Steve Libran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A/Max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rt 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 Bit Luck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Tim Stellm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4mm Game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Few Ground Ru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ease stay for both da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vE, not Pv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ve the “meta-discussion” for the very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n the laptop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ast but not least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26T22:10:37Z</dcterms:modified>
  <cp:revision>81</cp:revision>
  <dc:subject/>
  <dc:title>GDC 2005</dc:title>
</cp:coreProperties>
</file>