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9D50-EB15-483B-A9E1-DEF8D8FBB20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3010-9BCA-4D48-AE95-764509231F6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3249-1E9D-4258-988E-D8B71D80B3F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A90C-7063-4EBB-9EC5-7DE8AB8BD35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8D15-C9AE-422A-BB8D-12968F410F7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BA89-D162-44E5-8A88-4E7CD878913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695B-5F8D-4561-A0DB-01B4937BF60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AE15-54CE-426A-9BD3-5D14B13DDD5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9701-7C6B-4EBA-8EF5-F7C505FED8A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C7DC-DACC-4DB9-A86E-2C6ACFEE956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005C-8B13-4CD6-8614-9B32E968DDE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74FC-7AFF-4B0E-9F28-6E32545E3B6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ablo card ga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ill monsters, get treasure, buy better stuff, kill bigger monsters, get bigger treasures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9CDF-E916-47C0-9637-2E6196772F4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7A76-9A60-492A-B3F6-CA1F2A61A01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82CD-37D6-4760-9869-1C514B84511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56F4-1098-48C4-A060-BA61E7D1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F4F3-24F6-436D-A39A-565AB865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4BF0-8B4B-4FD6-A64C-C53D2958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BD9E-8C33-4DCE-B5A2-C46401A9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F70B-B758-4F51-A887-7453140B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5459-4B94-47F6-89DE-532E3CE6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0EE9-BE82-4782-869F-60D702D0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6FD0-9570-48F7-B1EF-F4E34B7C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97B0-0ECB-4492-B29D-063C8281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D9E2-4A7F-4036-85F1-339241B6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853C-A8E9-4AAB-B126-EEC46974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6DCC-01F6-4175-AFDA-5CA19B8F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4A7E-CAA8-4C81-A43C-E4B71A99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614B-AAD1-41FD-AEFE-506FA27A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A56D-BDAB-422E-AA7B-0F6AA7B6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5EA0-99D0-4EBC-9C65-310F2436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CF06-4DAC-478C-BCE9-54C63FA8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4C86-DA9B-4D07-9052-8513090C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6A61-A30A-4A7D-AF6C-02ECE734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5BE7-5717-44CA-93AB-732D4C33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04BC-E3B0-48E3-9303-F95E92BD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F6A3-1F61-4FBC-9D00-28F1438C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54BC-5DF2-40BC-97BB-15D6F1B5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EDD3-9851-4C67-B643-FEAEDD02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EF2F3-37CD-47D5-B691-B40CBC7E7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7B6FF-33F3-4B66-9155-14E26A88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2856C-6F87-41F7-8ACA-20534D82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EFFF8-E097-4C4A-B139-D4FED4BA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5932A-760F-4E84-B586-78E72822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5333E-3B23-4064-A2EB-68CDEBE4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F5175-91C0-4E28-A6EF-B23F6C1D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F9D16-2A49-44AA-9EA4-F49C2A80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328BA-5E3C-486D-A674-621A1AFD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A609E-799A-4328-85F8-463BF3A6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2D4ED-8EB9-443F-BCA4-E0491685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15F1F-37AB-4EBD-A5D5-72B48C29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GDC1011_2011_PPT_Template-Mai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F59E-F61F-478D-A499-437298761C54}" type="slidenum">
              <a:rPr b="0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67E8-3984-4B6F-ACF3-C4989C9796FD}" type="slidenum">
              <a:rPr b="0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41A4-021C-4237-8A5C-4C1173DF14CC}" type="slidenum">
              <a:rPr b="0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51444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ercise #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520" y="150480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ulate a video game using only pencils, index cards and di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it as a tool to help understand the game’s fundamental design princip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’t sweat the detai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uild a Paper Vers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To 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dentify your game’s play aesthetic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oose one aesthetic element to cap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Not to 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spcAft>
                <a:spcPts val="1188"/>
              </a:spcAft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n’t sweat the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spcAft>
                <a:spcPts val="1188"/>
              </a:spcAft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n’t try to duplicate the whole ga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spcAft>
                <a:spcPts val="1188"/>
              </a:spcAft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n’t focus on simulating computer fun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eta Test at 3:1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ry to have something playable quickly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terat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eta Tes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d two testers to other tables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until 3:4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iscuss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’s share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esthetics did you captur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id you leave out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74304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Messag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33520" y="196200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y transcends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chan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ynam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esthe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tim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04920" y="135216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for understanding existing g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ese techniques for games in progr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 is quick and chea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don’t need programmers or arti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614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ing Paper Prototyp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3614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ing Paper Prototyp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15811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’t replace actual gameplay te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give you a head start and keep you foc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give you a vocabulary to use when discussing your g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used as a tool to educate programmers. Have them play, too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3"/>
          <p:cNvSpPr/>
          <p:nvPr/>
        </p:nvSpPr>
        <p:spPr>
          <a:xfrm>
            <a:off x="1905120" y="2057400"/>
            <a:ext cx="5105160" cy="2800440"/>
          </a:xfrm>
          <a:prstGeom prst="rect">
            <a:avLst/>
          </a:prstGeom>
          <a:solidFill>
            <a:srgbClr val="606fa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1905120" y="1447920"/>
            <a:ext cx="51051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Tony Hawk’s Pro Ska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8584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ample Ga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2698920" y="2200320"/>
          <a:ext cx="35496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8920" y="2200320"/>
                    <a:ext cx="35496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4"/>
          <p:cNvSpPr/>
          <p:nvPr/>
        </p:nvSpPr>
        <p:spPr>
          <a:xfrm>
            <a:off x="533520" y="285840"/>
            <a:ext cx="807696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xample Gam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1905120" y="2057400"/>
            <a:ext cx="5105160" cy="2800440"/>
          </a:xfrm>
          <a:prstGeom prst="rect">
            <a:avLst/>
          </a:prstGeom>
          <a:solidFill>
            <a:srgbClr val="606fa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0" name="Object 2"/>
          <p:cNvGraphicFramePr/>
          <p:nvPr/>
        </p:nvGraphicFramePr>
        <p:xfrm>
          <a:off x="1981080" y="2266920"/>
          <a:ext cx="4826160" cy="24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66920"/>
                    <a:ext cx="482616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11"/>
          <p:cNvSpPr/>
          <p:nvPr/>
        </p:nvSpPr>
        <p:spPr>
          <a:xfrm>
            <a:off x="1905120" y="1447920"/>
            <a:ext cx="51051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Tony Hawk’s Pro Ska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152280" y="438120"/>
            <a:ext cx="8991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Asteroi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4" descr="asteroids-old"/>
          <p:cNvPicPr/>
          <p:nvPr/>
        </p:nvPicPr>
        <p:blipFill>
          <a:blip r:embed="rId1"/>
          <a:stretch/>
        </p:blipFill>
        <p:spPr>
          <a:xfrm>
            <a:off x="2666880" y="1047600"/>
            <a:ext cx="3962520" cy="3962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2665440" y="971640"/>
          <a:ext cx="40402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5440" y="971640"/>
                    <a:ext cx="4040280" cy="4038480"/>
                  </a:xfrm>
                  <a:prstGeom prst="rect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7" name="Rectangle 5"/>
          <p:cNvSpPr/>
          <p:nvPr/>
        </p:nvSpPr>
        <p:spPr>
          <a:xfrm>
            <a:off x="152280" y="438120"/>
            <a:ext cx="8991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Asteroi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warcards"/>
          <p:cNvPicPr/>
          <p:nvPr/>
        </p:nvPicPr>
        <p:blipFill>
          <a:blip r:embed="rId1"/>
          <a:stretch/>
        </p:blipFill>
        <p:spPr>
          <a:xfrm>
            <a:off x="2590920" y="590400"/>
            <a:ext cx="419076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6" descr="civ-soren"/>
          <p:cNvPicPr/>
          <p:nvPr/>
        </p:nvPicPr>
        <p:blipFill>
          <a:blip r:embed="rId1"/>
          <a:stretch/>
        </p:blipFill>
        <p:spPr>
          <a:xfrm>
            <a:off x="1905120" y="647640"/>
            <a:ext cx="5715000" cy="42861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a digital g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paper prototy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esthetics survive the change in medium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rainstor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some games to “unplug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eak into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22:56:43Z</dcterms:created>
  <dc:creator>Jamil Moledina</dc:creator>
  <dc:description/>
  <dc:language>en-US</dc:language>
  <cp:lastModifiedBy>MAHK</cp:lastModifiedBy>
  <cp:lastPrinted>1904-01-01T00:00:00Z</cp:lastPrinted>
  <dcterms:modified xsi:type="dcterms:W3CDTF">2011-02-13T00:24:38Z</dcterms:modified>
  <cp:revision>83</cp:revision>
  <dc:subject/>
  <dc:title>GDC 2005</dc:title>
</cp:coreProperties>
</file>