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6.gif" ContentType="image/gi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5C63-A187-48F6-B68A-49C3DB537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7013-8900-4CFA-80C1-2F6F6F5E611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31CA-FB2F-48F0-A38D-19E03CDCB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6A98-2B67-4346-8485-18FAD9867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C9F1-CB9E-4217-A66C-78B93F94F4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9E5C-2F05-4F78-96C0-E92702B43A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5563-6EB4-43C2-8B5C-00F474108A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896D-147E-4AEE-A632-D07D8B7BFFD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109B-7DFC-4CA1-AFA0-776CC482D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C2F8-F9EC-4940-9FFC-CB149D05D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9606-E5CE-49FB-9612-A70C2A56F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B8DB-969B-4E71-8BD1-2C4BABD1C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C769-3EAD-4C3D-80F9-79B1382D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9388-2874-4DAC-B420-B151FDD8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3017-ED8F-4DC4-8B94-3B46FA2B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2FA7-FD84-4480-AB34-BF7A3066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8A7-FD87-4295-8A5E-69F7B42E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B1A1-2709-4A2C-AEC7-81B1E944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98C7-FA90-4BC3-B29B-A0C52D91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657C-2CCD-47DA-BD3F-2CDCB3EC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44A9-6599-4FB6-8A49-8CDE85FE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597F-55D2-49A8-9505-C2E9BDE1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30AB-F863-45CC-9FEC-9F79FBD7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88B-CD3A-41FC-A00B-38ACC060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0594-EB13-4267-AC81-5DB99F46C2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GDC1011_2011_PPT_Template-Mai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yer as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articip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Content Placeholder 3" descr="sk02%20playing%20four%20square.jpg"/>
          <p:cNvPicPr/>
          <p:nvPr/>
        </p:nvPicPr>
        <p:blipFill>
          <a:blip r:embed="rId1"/>
          <a:stretch/>
        </p:blipFill>
        <p:spPr>
          <a:xfrm>
            <a:off x="1981080" y="97164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4" name="AutoShape 4"/>
          <p:cNvCxnSpPr>
            <a:stCxn id="115" idx="3"/>
            <a:endCxn id="116" idx="1"/>
          </p:cNvCxnSpPr>
          <p:nvPr/>
        </p:nvCxnSpPr>
        <p:spPr>
          <a:xfrm>
            <a:off x="3327120" y="2761920"/>
            <a:ext cx="184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17" name="AutoShape 5"/>
          <p:cNvCxnSpPr>
            <a:stCxn id="116" idx="3"/>
            <a:endCxn id="118" idx="1"/>
          </p:cNvCxnSpPr>
          <p:nvPr/>
        </p:nvCxnSpPr>
        <p:spPr>
          <a:xfrm>
            <a:off x="5708520" y="2761920"/>
            <a:ext cx="185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5" name="Rectangle 6"/>
          <p:cNvSpPr/>
          <p:nvPr/>
        </p:nvSpPr>
        <p:spPr>
          <a:xfrm>
            <a:off x="1143000" y="1733400"/>
            <a:ext cx="2171880" cy="2057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524400" y="1733400"/>
            <a:ext cx="2171520" cy="205740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ynam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5905440" y="1733400"/>
            <a:ext cx="2171880" cy="2057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me 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2343240"/>
            <a:ext cx="73152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ant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lai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events of 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ctiv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ce gives u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ynamic Mod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066680" y="1123920"/>
            <a:ext cx="2171880" cy="914400"/>
          </a:xfrm>
          <a:prstGeom prst="rect">
            <a:avLst/>
          </a:prstGeom>
          <a:solidFill>
            <a:srgbClr val="33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ules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5829480" y="1123920"/>
            <a:ext cx="2171520" cy="91440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un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448080" y="1123920"/>
            <a:ext cx="2171520" cy="91440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ctivity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4" name="AutoShape 7"/>
          <p:cNvCxnSpPr>
            <a:stCxn id="121" idx="3"/>
            <a:endCxn id="123" idx="1"/>
          </p:cNvCxnSpPr>
          <p:nvPr/>
        </p:nvCxnSpPr>
        <p:spPr>
          <a:xfrm>
            <a:off x="3251160" y="1580760"/>
            <a:ext cx="185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5" name="AutoShape 8"/>
          <p:cNvCxnSpPr>
            <a:stCxn id="123" idx="3"/>
            <a:endCxn id="122" idx="1"/>
          </p:cNvCxnSpPr>
          <p:nvPr/>
        </p:nvCxnSpPr>
        <p:spPr>
          <a:xfrm>
            <a:off x="5632200" y="1580760"/>
            <a:ext cx="184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4440"/>
            <a:ext cx="73915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eedback System is One 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24"/>
          <p:cNvGrpSpPr/>
          <p:nvPr/>
        </p:nvGrpSpPr>
        <p:grpSpPr>
          <a:xfrm>
            <a:off x="1600200" y="1400040"/>
            <a:ext cx="5459400" cy="3610080"/>
            <a:chOff x="1600200" y="1400040"/>
            <a:chExt cx="5459400" cy="3610080"/>
          </a:xfrm>
        </p:grpSpPr>
        <p:sp>
          <p:nvSpPr>
            <p:cNvPr id="128" name="Rectangle 2"/>
            <p:cNvSpPr/>
            <p:nvPr/>
          </p:nvSpPr>
          <p:spPr>
            <a:xfrm>
              <a:off x="2067120" y="1400040"/>
              <a:ext cx="1586880" cy="12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om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Line 3"/>
            <p:cNvSpPr/>
            <p:nvPr/>
          </p:nvSpPr>
          <p:spPr>
            <a:xfrm>
              <a:off x="3714480" y="2314440"/>
              <a:ext cx="201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Line 4"/>
            <p:cNvSpPr/>
            <p:nvPr/>
          </p:nvSpPr>
          <p:spPr>
            <a:xfrm flipH="1" flipV="1">
              <a:off x="3531240" y="3962880"/>
              <a:ext cx="2196720" cy="18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Line 5"/>
            <p:cNvSpPr/>
            <p:nvPr/>
          </p:nvSpPr>
          <p:spPr>
            <a:xfrm flipH="1">
              <a:off x="3531240" y="4328640"/>
              <a:ext cx="2196720" cy="18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Line 6"/>
            <p:cNvSpPr/>
            <p:nvPr/>
          </p:nvSpPr>
          <p:spPr>
            <a:xfrm>
              <a:off x="6140160" y="2970360"/>
              <a:ext cx="0" cy="10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3" name="Picture 7" descr="therm"/>
            <p:cNvPicPr/>
            <p:nvPr/>
          </p:nvPicPr>
          <p:blipFill>
            <a:blip r:embed="rId1"/>
            <a:stretch/>
          </p:blipFill>
          <p:spPr>
            <a:xfrm>
              <a:off x="5789520" y="1521720"/>
              <a:ext cx="685440" cy="14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8" descr="control"/>
            <p:cNvPicPr/>
            <p:nvPr/>
          </p:nvPicPr>
          <p:blipFill>
            <a:blip r:embed="rId2"/>
            <a:stretch/>
          </p:blipFill>
          <p:spPr>
            <a:xfrm>
              <a:off x="5789520" y="4023720"/>
              <a:ext cx="127008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9" descr="cooler"/>
            <p:cNvPicPr/>
            <p:nvPr/>
          </p:nvPicPr>
          <p:blipFill>
            <a:blip r:embed="rId3"/>
            <a:stretch/>
          </p:blipFill>
          <p:spPr>
            <a:xfrm>
              <a:off x="2067120" y="4145400"/>
              <a:ext cx="1382760" cy="86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0" descr="heater"/>
            <p:cNvPicPr/>
            <p:nvPr/>
          </p:nvPicPr>
          <p:blipFill>
            <a:blip r:embed="rId4"/>
            <a:stretch/>
          </p:blipFill>
          <p:spPr>
            <a:xfrm>
              <a:off x="2067120" y="3292200"/>
              <a:ext cx="1403640" cy="87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Freeform 11"/>
            <p:cNvSpPr/>
            <p:nvPr/>
          </p:nvSpPr>
          <p:spPr>
            <a:xfrm>
              <a:off x="1854000" y="2680920"/>
              <a:ext cx="213120" cy="1037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1600200" y="2376000"/>
              <a:ext cx="466920" cy="1952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3073320" y="1954080"/>
            <a:ext cx="4470480" cy="2979720"/>
            <a:chOff x="3073320" y="1954080"/>
            <a:chExt cx="4470480" cy="2979720"/>
          </a:xfrm>
        </p:grpSpPr>
        <p:graphicFrame>
          <p:nvGraphicFramePr>
            <p:cNvPr id="140" name="Object 2"/>
            <p:cNvGraphicFramePr/>
            <p:nvPr/>
          </p:nvGraphicFramePr>
          <p:xfrm>
            <a:off x="3073320" y="1954080"/>
            <a:ext cx="4470480" cy="297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73320" y="1954080"/>
                      <a:ext cx="4470480" cy="297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Text Box 4"/>
            <p:cNvSpPr/>
            <p:nvPr/>
          </p:nvSpPr>
          <p:spPr>
            <a:xfrm rot="16200000">
              <a:off x="2732400" y="3066480"/>
              <a:ext cx="15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Chance in 36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Text Box 5"/>
            <p:cNvSpPr/>
            <p:nvPr/>
          </p:nvSpPr>
          <p:spPr>
            <a:xfrm>
              <a:off x="4828680" y="439200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Die rol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4" name="Picture 6" descr="dice"/>
          <p:cNvPicPr/>
          <p:nvPr/>
        </p:nvPicPr>
        <p:blipFill>
          <a:blip r:embed="rId3"/>
          <a:stretch/>
        </p:blipFill>
        <p:spPr>
          <a:xfrm>
            <a:off x="1397160" y="2563920"/>
            <a:ext cx="1663560" cy="14810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Random Vari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19988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model of 2d6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 Grand Unified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ontent Placeholder 4" descr="logo.jpg"/>
          <p:cNvPicPr/>
          <p:nvPr/>
        </p:nvPicPr>
        <p:blipFill>
          <a:blip r:embed="rId1"/>
          <a:srcRect l="0" t="0" r="629" b="17473"/>
          <a:stretch/>
        </p:blipFill>
        <p:spPr>
          <a:xfrm>
            <a:off x="2362320" y="1123920"/>
            <a:ext cx="44956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880" y="1504440"/>
            <a:ext cx="7467840" cy="23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: What Dynamic Models can psychology provi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“Scourge Factor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90720" y="4492800"/>
            <a:ext cx="670536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How might this fail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981080" y="1635120"/>
            <a:ext cx="1600200" cy="96840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issyF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Oval 5"/>
          <p:cNvSpPr/>
          <p:nvPr/>
        </p:nvSpPr>
        <p:spPr>
          <a:xfrm>
            <a:off x="5334120" y="1635120"/>
            <a:ext cx="1752480" cy="800280"/>
          </a:xfrm>
          <a:prstGeom prst="ellipse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Someon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ning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Oval 6"/>
          <p:cNvSpPr/>
          <p:nvPr/>
        </p:nvSpPr>
        <p:spPr>
          <a:xfrm>
            <a:off x="5257800" y="3406680"/>
            <a:ext cx="1752480" cy="800280"/>
          </a:xfrm>
          <a:prstGeom prst="ellipse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t’s gang up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1905120" y="3406680"/>
            <a:ext cx="1752480" cy="800280"/>
          </a:xfrm>
          <a:prstGeom prst="ellipse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am Attack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8"/>
          <p:cNvSpPr/>
          <p:nvPr/>
        </p:nvSpPr>
        <p:spPr>
          <a:xfrm>
            <a:off x="3657600" y="2092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9"/>
          <p:cNvSpPr/>
          <p:nvPr/>
        </p:nvSpPr>
        <p:spPr>
          <a:xfrm>
            <a:off x="6172200" y="2492280"/>
            <a:ext cx="0" cy="85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10"/>
          <p:cNvSpPr/>
          <p:nvPr/>
        </p:nvSpPr>
        <p:spPr>
          <a:xfrm flipH="1">
            <a:off x="3885840" y="3807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11"/>
          <p:cNvSpPr/>
          <p:nvPr/>
        </p:nvSpPr>
        <p:spPr>
          <a:xfrm flipV="1">
            <a:off x="2743200" y="266400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Greed Cataly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Content Placeholder 4" descr="arc_pac_man_1.jpg"/>
          <p:cNvPicPr/>
          <p:nvPr/>
        </p:nvPicPr>
        <p:blipFill>
          <a:blip r:embed="rId1"/>
          <a:stretch/>
        </p:blipFill>
        <p:spPr>
          <a:xfrm>
            <a:off x="1447920" y="1047600"/>
            <a:ext cx="3060720" cy="3529080"/>
          </a:xfrm>
          <a:prstGeom prst="rect">
            <a:avLst/>
          </a:prstGeom>
          <a:ln w="0">
            <a:noFill/>
          </a:ln>
        </p:spPr>
      </p:pic>
      <p:pic>
        <p:nvPicPr>
          <p:cNvPr id="162" name="Content Placeholder 5" descr="no_pellet.jpg"/>
          <p:cNvPicPr/>
          <p:nvPr/>
        </p:nvPicPr>
        <p:blipFill>
          <a:blip r:embed="rId2"/>
          <a:stretch/>
        </p:blipFill>
        <p:spPr>
          <a:xfrm>
            <a:off x="4584600" y="1047600"/>
            <a:ext cx="3038400" cy="35053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6"/>
          <p:cNvSpPr/>
          <p:nvPr/>
        </p:nvSpPr>
        <p:spPr>
          <a:xfrm>
            <a:off x="2761920" y="454824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ch game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arde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36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rUps = Eas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Content Placeholder 4" descr="arc_pac_man_1.jpg"/>
          <p:cNvPicPr/>
          <p:nvPr/>
        </p:nvPicPr>
        <p:blipFill>
          <a:blip r:embed="rId1"/>
          <a:stretch/>
        </p:blipFill>
        <p:spPr>
          <a:xfrm>
            <a:off x="1447920" y="1047600"/>
            <a:ext cx="306072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36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rUps = Eas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Content Placeholder 4" descr="arc_pac_man_1.jpg"/>
          <p:cNvPicPr/>
          <p:nvPr/>
        </p:nvPicPr>
        <p:blipFill>
          <a:blip r:embed="rId1"/>
          <a:stretch/>
        </p:blipFill>
        <p:spPr>
          <a:xfrm>
            <a:off x="1447920" y="1047600"/>
            <a:ext cx="3060720" cy="3529080"/>
          </a:xfrm>
          <a:prstGeom prst="rect">
            <a:avLst/>
          </a:prstGeom>
          <a:ln w="0">
            <a:noFill/>
          </a:ln>
        </p:spPr>
      </p:pic>
      <p:pic>
        <p:nvPicPr>
          <p:cNvPr id="168" name="Content Placeholder 3" descr="orly_spock.jpg"/>
          <p:cNvPicPr/>
          <p:nvPr/>
        </p:nvPicPr>
        <p:blipFill>
          <a:blip r:embed="rId2"/>
          <a:stretch/>
        </p:blipFill>
        <p:spPr>
          <a:xfrm>
            <a:off x="4648320" y="1047600"/>
            <a:ext cx="2535120" cy="35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91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t det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3874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powerup wears of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es an “optimality cliff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urns enemies into scoring targe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courages riskier pl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eed Catalyst:” a “gift” that makes the player recklessly greed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85800" y="1200240"/>
            <a:ext cx="7315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he powerup changes the dynamics of play by changing the player’s behavior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Could convince players to diverge from a “safer” gang-up strateg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cep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397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’t act on what I can’t percei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 Blind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6" descr="FarmsFlickerMovie.gif"/>
          <p:cNvPicPr/>
          <p:nvPr/>
        </p:nvPicPr>
        <p:blipFill>
          <a:blip r:embed="rId1"/>
          <a:stretch/>
        </p:blipFill>
        <p:spPr>
          <a:xfrm>
            <a:off x="2308320" y="1055520"/>
            <a:ext cx="4473360" cy="38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sual No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Content Placeholder 3" descr="fallout3screenshot2.jpg"/>
          <p:cNvPicPr/>
          <p:nvPr/>
        </p:nvPicPr>
        <p:blipFill>
          <a:blip r:embed="rId1"/>
          <a:stretch/>
        </p:blipFill>
        <p:spPr>
          <a:xfrm>
            <a:off x="1523880" y="1284120"/>
            <a:ext cx="6080400" cy="34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0520" y="120024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Errors in perception can change the dynamics of pla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Could cause a player to miss a gang-up opportun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rib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397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people assign blame or cred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Fundamental Attribution Err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618920"/>
            <a:ext cx="731520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ur own choices are rational and situation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ther people’s choices are governed by personality and moo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Players might misdiagnose a “scourge” situation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f-Serving B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8240" y="1958760"/>
            <a:ext cx="792468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successes are delibera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failures are not our faul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ヒラギノ角ゴ Pro W3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unslinger’s Alib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2209320"/>
            <a:ext cx="73152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 win, it’s ski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 lose, it’s lu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ndomness is self-servin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203796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layer is more tolerant of failu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layer is more stubborn about his choices. 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(Confirmation bias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No need to change course in order to bring down the scour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309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Marshmallow Te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video.mp4" descr=""/>
          <p:cNvPicPr/>
          <p:nvPr/>
        </p:nvPicPr>
        <p:blipFill>
          <a:blip r:embed="rId1"/>
          <a:stretch/>
        </p:blipFill>
        <p:spPr>
          <a:xfrm>
            <a:off x="1743120" y="938160"/>
            <a:ext cx="5429160" cy="407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64404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gnitive Dissonance: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ou have to Eat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Content Placeholder 3" descr="EatTheMarshmallow.JPG"/>
          <p:cNvPicPr/>
          <p:nvPr/>
        </p:nvPicPr>
        <p:blipFill>
          <a:blip r:embed="rId1"/>
          <a:stretch/>
        </p:blipFill>
        <p:spPr>
          <a:xfrm>
            <a:off x="2133720" y="1481040"/>
            <a:ext cx="4495680" cy="34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999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Aesthetic I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4" name="AutoShape 4"/>
          <p:cNvCxnSpPr>
            <a:stCxn id="195" idx="3"/>
            <a:endCxn id="196" idx="1"/>
          </p:cNvCxnSpPr>
          <p:nvPr/>
        </p:nvCxnSpPr>
        <p:spPr>
          <a:xfrm>
            <a:off x="3098520" y="3066840"/>
            <a:ext cx="184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97" name="AutoShape 5"/>
          <p:cNvCxnSpPr>
            <a:stCxn id="196" idx="3"/>
            <a:endCxn id="198" idx="1"/>
          </p:cNvCxnSpPr>
          <p:nvPr/>
        </p:nvCxnSpPr>
        <p:spPr>
          <a:xfrm>
            <a:off x="5479920" y="3066840"/>
            <a:ext cx="185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95" name="Rectangle 6"/>
          <p:cNvSpPr/>
          <p:nvPr/>
        </p:nvSpPr>
        <p:spPr>
          <a:xfrm>
            <a:off x="914400" y="2038320"/>
            <a:ext cx="2171880" cy="2057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295800" y="2038320"/>
            <a:ext cx="2171520" cy="2057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5676840" y="2038320"/>
            <a:ext cx="2171880" cy="205740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6663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unslinger’s Alib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560"/>
            <a:ext cx="7315200" cy="34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feel smart without making you feel dumb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nly if there’s some randomnes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ginner’s Luck”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zards’ 70/30 ru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966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loined L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92360"/>
            <a:ext cx="8229600" cy="27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hing the player knows about, but still doesn’t see com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s create a shallower learning cur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228600" y="1504440"/>
            <a:ext cx="46483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nslinger’s Alib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loined L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28600" y="1504440"/>
            <a:ext cx="46483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nslinger’s Alib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loined L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d0b9d14440856a1bf15c863876ad6e80963695e0_full.jpg"/>
          <p:cNvPicPr/>
          <p:nvPr/>
        </p:nvPicPr>
        <p:blipFill>
          <a:blip r:embed="rId1"/>
          <a:stretch/>
        </p:blipFill>
        <p:spPr>
          <a:xfrm>
            <a:off x="5791320" y="11239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3"/>
          <p:cNvSpPr/>
          <p:nvPr/>
        </p:nvSpPr>
        <p:spPr>
          <a:xfrm>
            <a:off x="4893480" y="2343240"/>
            <a:ext cx="64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=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680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rrier to En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http://www.faqs.org/photo-dict/photofiles/list/4871/6412dog_agility_trial.jpg"/>
          <p:cNvPicPr/>
          <p:nvPr/>
        </p:nvPicPr>
        <p:blipFill>
          <a:blip r:embed="rId1"/>
          <a:stretch/>
        </p:blipFill>
        <p:spPr>
          <a:xfrm>
            <a:off x="1866960" y="1325520"/>
            <a:ext cx="5448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9522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DA: Human 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AutoShape 4"/>
          <p:cNvCxnSpPr>
            <a:stCxn id="92" idx="3"/>
            <a:endCxn id="93" idx="1"/>
          </p:cNvCxnSpPr>
          <p:nvPr/>
        </p:nvCxnSpPr>
        <p:spPr>
          <a:xfrm>
            <a:off x="2946240" y="2914200"/>
            <a:ext cx="185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94" name="AutoShape 5"/>
          <p:cNvCxnSpPr>
            <a:stCxn id="93" idx="3"/>
            <a:endCxn id="95" idx="1"/>
          </p:cNvCxnSpPr>
          <p:nvPr/>
        </p:nvCxnSpPr>
        <p:spPr>
          <a:xfrm>
            <a:off x="5327640" y="2914200"/>
            <a:ext cx="185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92" name="Rectangle 6"/>
          <p:cNvSpPr/>
          <p:nvPr/>
        </p:nvSpPr>
        <p:spPr>
          <a:xfrm>
            <a:off x="762120" y="1886040"/>
            <a:ext cx="2171520" cy="2057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143160" y="1886040"/>
            <a:ext cx="2171880" cy="205740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ynam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524560" y="1886040"/>
            <a:ext cx="2171520" cy="2057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680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rrier to En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257120"/>
            <a:ext cx="7315200" cy="34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s a sense of invest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s noobs out and enthusiasts 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tion ri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lvet rope.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cquisition vs. reten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e these separate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4019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eparate view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" name="AutoShape 4"/>
          <p:cNvCxnSpPr/>
          <p:nvPr/>
        </p:nvCxnSpPr>
        <p:spPr>
          <a:xfrm>
            <a:off x="3670200" y="2761920"/>
            <a:ext cx="185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14" name="Rectangle 8"/>
          <p:cNvSpPr/>
          <p:nvPr/>
        </p:nvSpPr>
        <p:spPr>
          <a:xfrm>
            <a:off x="5886360" y="1733400"/>
            <a:ext cx="2171880" cy="205740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505320" y="1733400"/>
            <a:ext cx="2171520" cy="205740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ynam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1123920" y="1733400"/>
            <a:ext cx="2171880" cy="2057400"/>
          </a:xfrm>
          <a:prstGeom prst="rect">
            <a:avLst/>
          </a:prstGeom>
          <a:solidFill>
            <a:srgbClr val="33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echan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re does the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playe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it into MDA?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057400"/>
            <a:ext cx="731520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A is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gnitiv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o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other approach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ayer as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Audienc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audience.jpg"/>
          <p:cNvPicPr/>
          <p:nvPr/>
        </p:nvPicPr>
        <p:blipFill>
          <a:blip r:embed="rId1"/>
          <a:stretch/>
        </p:blipFill>
        <p:spPr>
          <a:xfrm>
            <a:off x="1676520" y="895320"/>
            <a:ext cx="59436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0" name="AutoShape 4"/>
          <p:cNvCxnSpPr>
            <a:stCxn id="101" idx="3"/>
            <a:endCxn id="102" idx="1"/>
          </p:cNvCxnSpPr>
          <p:nvPr/>
        </p:nvCxnSpPr>
        <p:spPr>
          <a:xfrm>
            <a:off x="3314880" y="2762280"/>
            <a:ext cx="2102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03" name="AutoShape 5"/>
          <p:cNvCxnSpPr>
            <a:stCxn id="102" idx="3"/>
            <a:endCxn id="104" idx="1"/>
          </p:cNvCxnSpPr>
          <p:nvPr/>
        </p:nvCxnSpPr>
        <p:spPr>
          <a:xfrm>
            <a:off x="5695920" y="2762280"/>
            <a:ext cx="2102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01" name="Rectangle 6"/>
          <p:cNvSpPr/>
          <p:nvPr/>
        </p:nvSpPr>
        <p:spPr>
          <a:xfrm>
            <a:off x="1143000" y="1733400"/>
            <a:ext cx="2171880" cy="2057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524400" y="1733400"/>
            <a:ext cx="2171520" cy="2057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5905440" y="1733400"/>
            <a:ext cx="2171880" cy="205740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yer as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Content Placeholder 3" descr="EyeToy.jpg"/>
          <p:cNvPicPr/>
          <p:nvPr/>
        </p:nvPicPr>
        <p:blipFill>
          <a:blip r:embed="rId1"/>
          <a:stretch/>
        </p:blipFill>
        <p:spPr>
          <a:xfrm>
            <a:off x="1924200" y="1004760"/>
            <a:ext cx="523872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7" name="AutoShape 4"/>
          <p:cNvCxnSpPr>
            <a:stCxn id="108" idx="3"/>
            <a:endCxn id="109" idx="1"/>
          </p:cNvCxnSpPr>
          <p:nvPr/>
        </p:nvCxnSpPr>
        <p:spPr>
          <a:xfrm>
            <a:off x="3327120" y="2761920"/>
            <a:ext cx="184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10" name="AutoShape 5"/>
          <p:cNvCxnSpPr>
            <a:stCxn id="109" idx="3"/>
            <a:endCxn id="111" idx="1"/>
          </p:cNvCxnSpPr>
          <p:nvPr/>
        </p:nvCxnSpPr>
        <p:spPr>
          <a:xfrm>
            <a:off x="5708520" y="2761920"/>
            <a:ext cx="185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08" name="Rectangle 6"/>
          <p:cNvSpPr/>
          <p:nvPr/>
        </p:nvSpPr>
        <p:spPr>
          <a:xfrm>
            <a:off x="1143000" y="1733400"/>
            <a:ext cx="2171880" cy="2057400"/>
          </a:xfrm>
          <a:prstGeom prst="rect">
            <a:avLst/>
          </a:prstGeom>
          <a:solidFill>
            <a:srgbClr val="33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echan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524400" y="1733400"/>
            <a:ext cx="2171520" cy="2057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905440" y="1733400"/>
            <a:ext cx="2171880" cy="2057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22:56:43Z</dcterms:created>
  <dc:creator>Jamil Moledina</dc:creator>
  <dc:description/>
  <dc:language>en-US</dc:language>
  <cp:lastModifiedBy>MAHK</cp:lastModifiedBy>
  <cp:lastPrinted>1904-01-01T00:00:00Z</cp:lastPrinted>
  <dcterms:modified xsi:type="dcterms:W3CDTF">2011-02-27T05:58:01Z</dcterms:modified>
  <cp:revision>64</cp:revision>
  <dc:subject/>
  <dc:title>GDC 2005</dc:title>
</cp:coreProperties>
</file>