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84F7-467B-4574-8BDC-6EC2F3E1AA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F36E-02F9-4C4A-B0EC-90A78C24AE5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AF8F-866F-427B-A134-F48E768FAE3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7972-6D99-4491-94D6-F224D37EE4C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56F5-D265-449A-A8EF-FC92B13B7C2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B451-F68B-4866-8FFE-FD7DE75BD10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ED17-FBA1-4A55-8DFB-6F8BD79214E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3519-8EE5-4AF1-89BB-4244D7DF3BA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9D81-B1B2-4FFD-950D-1BE95D32E42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1506-DF55-4D36-8EF9-BBB6E7F65FD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1BAA-F841-4D68-B923-FB993998F44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95B1-1609-4382-9879-EB1BA881E7C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24B5-97D3-4284-B577-FCC5FA68CE5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270E-FC41-49B1-B87C-88B0A5EB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E78-4116-42C8-B6F3-A0430448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327-D12F-47B1-96FD-878F8765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7F46-2907-4440-A896-AFA3E486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718-2787-4A6C-A67B-0EDF0447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431-781C-4292-9952-EFADBA71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6BD-8461-4402-AF0C-BD112B16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D90-098D-4637-A1B8-B2BB29F6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A50-0F75-4F12-ACF2-46D43996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8F4-A9BB-482B-A879-06979128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DCF-916E-4D3A-B851-BD810950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4D7C-5B4F-431B-9BF3-5299224A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1FE9-5C47-4D3E-A80B-B232C33A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F022-DF30-4D07-B78A-94B5F233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981B-C0E3-4B23-8D98-C26D3FC5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A17C-75E9-469F-A1DE-31D4CD20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21DE-3889-4288-A385-404B232D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F3EB-AB7F-49D3-B917-4DB71D76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F4F7-AF4A-4359-8F0E-4ED7AC39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0CBB-74D3-4D5D-B98A-AD3BEE6A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A93E-0ADE-47D9-A549-2E24DD91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CA6E-845D-4229-BFC2-AF4C852B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92BA-829C-4E67-A9F8-9B7BEAE3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8F04-A802-4D48-BF78-6B0B7A57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B476D-1787-455C-AD4F-C011B23F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ABE24-1091-44B2-AAE9-B68B7D62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3E684-1DA6-4D82-8A07-A957EE45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AB660-3635-48FD-A585-83975AEE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92DF9-C8E2-4D84-ACC5-F6D607D0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9EFE6-123E-4E3F-A7F3-F7F47BA5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F8CDF-C05A-47E9-A628-B01E3812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814D8-AC38-4633-B257-04AC3A66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4F729-5CB1-44CA-80C1-3625A4EC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13278-0E94-4A3B-9832-3E38A0B4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A766-737A-47E0-93E1-1FC16B28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82ABF-F90F-40DB-90C4-01F6092F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GDC1011_2011_PPT_Template-Mai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DF00-2D1B-41AB-9785-2E35D33A1320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182E-836D-4776-910C-05BF68D0E31F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61F3-9248-4744-8B1C-C2B9B27E6C7A}" type="slidenum">
              <a:rPr b="0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5144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 #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15048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e a video game using only pencils, index cards and d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it as a tool to help understand the game’s fundamental design princip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sweat the detai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d two testers to other tables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until 3:4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share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did you captu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id you leave out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7430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ess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9620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y transcends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chan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04920" y="13521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for understanding exist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se techniques for games in prog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is quick and che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don’t need programmers or art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5811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’t replace actual gameplay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head start and keep you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vocabulary to use when discussing your g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as a tool to educate programmers. Have them play, to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ctive 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on Game Designer 23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ebook Hoedown 2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lin’ GRUVI 22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 Ga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2698920" y="2200320"/>
          <a:ext cx="35496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2200320"/>
                    <a:ext cx="35496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4"/>
          <p:cNvSpPr/>
          <p:nvPr/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xample Gam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981080" y="2266920"/>
          <a:ext cx="482616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66920"/>
                    <a:ext cx="482616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4" descr="asteroids-old"/>
          <p:cNvPicPr/>
          <p:nvPr/>
        </p:nvPicPr>
        <p:blipFill>
          <a:blip r:embed="rId1"/>
          <a:stretch/>
        </p:blipFill>
        <p:spPr>
          <a:xfrm>
            <a:off x="2666880" y="1047600"/>
            <a:ext cx="3962520" cy="3962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2665440" y="971640"/>
          <a:ext cx="40402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971640"/>
                    <a:ext cx="4040280" cy="403848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Rectangle 5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a digital g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paper proto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survive the change in mediu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ainstor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some games to “unplug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k into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uild a Paper Ver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dentify your game’s play aesthetic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oose one aesthetic element to cap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No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sweat the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try to duplicate the whole ga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focus on simulating computer fun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 at 3:1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ry to have something playable quick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tera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56:43Z</dcterms:created>
  <dc:creator>Jamil Moledina</dc:creator>
  <dc:description/>
  <dc:language>en-US</dc:language>
  <cp:lastModifiedBy>Mahk</cp:lastModifiedBy>
  <cp:lastPrinted>1904-01-01T00:00:00Z</cp:lastPrinted>
  <dcterms:modified xsi:type="dcterms:W3CDTF">2011-03-01T04:14:58Z</dcterms:modified>
  <cp:revision>84</cp:revision>
  <dc:subject/>
  <dc:title>GDC 2005</dc:title>
</cp:coreProperties>
</file>