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6EF9-8AD6-45F0-8E8C-E5DC6F053C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105A-9851-43E0-9826-9D0F9D77F19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411D-7029-46C9-93C0-871DA98E6A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06F6-505C-45BD-9814-74E73DFF737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237F-C387-465F-B082-27F4F5EAE9E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A4C3-4A53-4F3C-8BDA-56B7BFEFA8B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25DC-D780-4F50-BD1D-8D283A0EFF4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4C94-A271-4F60-A79D-76A047EB02E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05FF-13E4-43FA-A92C-A9F863E7695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4BCB-D170-44BF-BCF1-15DC4869C81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58A6-278A-4C79-B70F-B28F2C1B15E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12D-46AD-4D1B-80E1-9FB27838ADD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ablo card g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ll monsters, get treasure, buy better stuff, kill bigger monsters, get bigger treasures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F39E-DCB7-467E-890F-047CA85FE82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89EF-3EBB-4D2D-B953-A5BB4A9C940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CA15-9F12-4C5D-9BC7-80070E961B6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673-08AF-4503-8E7D-BE990848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692-0C59-4969-9095-7509F514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788-1385-4B99-A28D-445D3566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2F8-11F2-4A69-8DDA-28539224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910-9363-4BB9-AFB2-234DFF96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E53-47A1-42E1-B831-B8487836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218-1AAB-4664-8AB2-C277A829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32C-2BB4-45C6-BC2A-796A6FB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DF3-9425-408A-82F9-A5DA9B4D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CA8-85EC-4BFD-BC35-E3BE6BBA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74A-0F43-4827-B601-87037CDF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7AE-F93B-4391-B330-E45F04FE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82F3-92F7-4727-A438-947425D5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B141-95A5-4057-86EF-247D58D0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FCF8-4830-4C00-9440-7761A266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FF43-F4FC-4C6E-B8B4-AD6E4D9A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8004-C26A-4452-ABCB-DF113DE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9CCD-7C94-4E6F-A847-B05CDBE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CAFE-9C84-439D-8AC4-6C21DB0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4EB5-41BE-4DB1-B501-87958EE9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739D-364E-45D3-86A6-2F334934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F166-2B26-4C23-8AAB-F3090563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7C04-BDEC-4E1B-875C-EC21E900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C76D-2ABB-454F-8564-5FB94074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342B-8AF6-43DD-9406-0C806D99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FD35-AD7F-425A-BFC2-9215DC5D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883C-D438-4176-8E9D-B4896042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AAF8-9022-4991-900B-436BE8E2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9FA5-A0B3-420A-9479-EF8820FA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0B97-6220-4CE3-89D5-C19903E3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3DBE-1C95-43A3-93FB-90FC66A2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3710-1416-438D-ADEC-AA70C5C5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33D9-AB6C-4A6C-821E-8520C5A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B954-E5C3-430E-A355-17AD855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CC0C-D1D1-465B-A700-D994FE4E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A940-482A-4CA2-B9D7-6EE8D8C8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2FCE-CDAB-417D-8416-7B85A30755BE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AD7A-C32F-4FAC-B89D-AE4F24B170D8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A2D9-C8BE-40EF-9C93-265AE3608F1D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5144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 #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04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a video game using only pencils, index cards and d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t as a tool to help understand the game’s fundamental design princi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sweat the detai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a Paper Ver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y your game’s play aesthe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oose one aesthetic element to cap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o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sweat the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try to duplicate the whole ga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focus on simulating computer fun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 at 3:1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y to have something playable quick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ter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two testers to other tabl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until 3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share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did you cap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id you leave ou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7430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9620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 transcends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3521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understanding exist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se techniques for games in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is quick and 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don’t need programmers or art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5811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replace actual gameplay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head start and keep you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vocabulary to use when discussing your g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 a tool to educate programmers. Have them play,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G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698920" y="2200320"/>
          <a:ext cx="35496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200320"/>
                    <a:ext cx="35496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xample Ga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981080" y="2266920"/>
          <a:ext cx="482616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6920"/>
                    <a:ext cx="48261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asteroids-old"/>
          <p:cNvPicPr/>
          <p:nvPr/>
        </p:nvPicPr>
        <p:blipFill>
          <a:blip r:embed="rId1"/>
          <a:stretch/>
        </p:blipFill>
        <p:spPr>
          <a:xfrm>
            <a:off x="2666880" y="1047600"/>
            <a:ext cx="3962520" cy="3962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2665440" y="971640"/>
          <a:ext cx="4040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971640"/>
                    <a:ext cx="4040280" cy="403848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warcards"/>
          <p:cNvPicPr/>
          <p:nvPr/>
        </p:nvPicPr>
        <p:blipFill>
          <a:blip r:embed="rId1"/>
          <a:stretch/>
        </p:blipFill>
        <p:spPr>
          <a:xfrm>
            <a:off x="2590920" y="590400"/>
            <a:ext cx="41907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iv-soren"/>
          <p:cNvPicPr/>
          <p:nvPr/>
        </p:nvPicPr>
        <p:blipFill>
          <a:blip r:embed="rId1"/>
          <a:stretch/>
        </p:blipFill>
        <p:spPr>
          <a:xfrm>
            <a:off x="1905120" y="64764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digital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paper proto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survive the change in medi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some games to “unplug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into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13T00:24:38Z</dcterms:modified>
  <cp:revision>83</cp:revision>
  <dc:subject/>
  <dc:title>GDC 2005</dc:title>
</cp:coreProperties>
</file>